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72CF-2788-49A6-B9C2-AB4F1A309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AD0D-D20C-469F-97D8-ADB85921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3F5AD-5029-47A8-A491-38A34C75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F2E80-F29E-4766-819E-E19631C0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C333EB-029F-4194-92A6-2429F1B6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4EF4E2-2D8F-4551-A37D-C978383E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ABE846-1047-47F8-8976-B6C506A7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D7A97F-42E7-4414-80EF-3C9FC8C5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49467-CD20-4B8A-B632-B4BAA0E0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F33C8-1E99-4BE2-9E99-F420DF8A6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A5EB99-FFFE-42A7-AEC9-56C8C939F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B60693-538F-4BA7-9A63-C5C46A06F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DDF1-473B-4278-BBFB-8EDEEAF5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80F7D-D2D8-4A4C-8E2F-9FBEA662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01495F-1C80-42F5-ADB2-E773222C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F728A-BA0F-4CA2-9D31-0B13FA12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1E433E-FE7D-4968-9AF2-56C7ABC7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1E42A9-4661-4EBA-A061-939A7B71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09B595-9AFA-4242-9B4A-44AC0612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ADF867-BBFA-4007-9CEC-5CEB48BB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03506-7930-4F0E-954B-60A31A01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87371-3122-48E4-8C3C-AE0895FE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FDD764-A540-4040-B8ED-93A062415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0EE8-5CBF-4E06-9AFF-BEF98D85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F7F010-A1CE-4F44-8620-FBF800992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E744E-61AE-4062-8F08-2C635A47A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5E764D-1109-4B1D-91BD-1274E85F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E5FF6-24B3-4D50-BC80-60379A8F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D5EE1F-B1EC-4744-B87E-2C0B3995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F7A948-D610-46D7-825E-D907C9EB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D205DE-C759-404A-A379-D6561DB8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BF996-1E4F-4930-BC44-5C2990EF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C4AC6-9A02-4E49-9DFA-E94A7CD2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A3845-5A20-4B62-92F5-D4E4A8E9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5A7BC-9EE3-47F8-AB6F-D0C54BDB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108EB-DE2F-45FB-ADD7-0232FD5C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2058BE-1D08-444B-AB1A-F4A39102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5535DD-D775-475E-B7DB-59925E6E8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D03E65-861C-414D-9928-F3E6835D5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A0331D-74E8-4828-A4CD-3E86E91F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B6806F-9014-4729-BE98-BF032485B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596251-80D5-425B-8A46-95ABB83F5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9F325-2534-4184-9812-C9D30CAC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717BDC-7C2A-448F-8884-788B6883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9434A-DA72-4B43-AD09-C8253FA1A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28E75-256C-4CA1-9C49-1E2AF3DFE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7704EE-99D3-488E-B5B3-B95ECDDED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846BBB-3723-4E84-A973-A4AF7C48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602D1-25E5-4A45-AE2E-1CEB355C8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1EFECD-A59C-45CC-A8FD-90C3AAF1B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770F0F-FC15-41BA-9A28-C56055845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A2708E-B7E8-4429-BEC4-4B294A851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923E10-2E2F-44D4-81CB-FB0FAFCC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4D1C88-DC65-4C7B-A3F7-3C40996B3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38099F-B747-4AA8-A033-5C35CBA9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A91558-7333-4B17-B59A-748E40D3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C0B13-726A-43E3-BBF8-CEEA00A91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2CE00B-4F91-4A62-BF36-B44915C6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BD7911-3C39-45B9-AE4F-A1F19452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2EA1F8-B7D8-4F60-8394-E09F135E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D34064-E266-4994-87EC-6DCB7774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C0370F-2392-4319-9393-35F70208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CD731C-0321-4963-9334-E900C62CA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208BDE-5467-4782-BAEB-FDE2A4314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04F220-F29D-4889-B261-BC4169F4D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A587F2-1C63-4F48-A6F1-61E501FED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9938D8-0B6A-4D91-A560-10BD201C1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EB50-6323-4EAA-8350-0773B673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6E23DD-5BE2-4212-B8CD-872A99D4F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CD9072-97E8-4FAF-8F34-A6CF49C35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57A1DB-72E0-424E-85AF-0DAF877E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1107F7-DAEE-4A4C-B7ED-2B33F794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1B8FC3-D674-41B9-81F1-F9527A1A2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91A7BD-4AD7-4337-9728-9C993A67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ED610E-4E0F-44AE-89AA-80A7D3700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154138-A6C8-45D4-8411-24DC07E68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3A961D-9002-4514-A190-49BDE8420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542BF8-C5AE-468B-AF04-B287D1A08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E9A15-6559-42CC-A495-BE6F69F8D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F5B88E-F8A6-4EA8-A478-5688CEECD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43D860-2C55-431D-A571-D593A92B1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1B2443-4A94-44BE-9DAD-68988D87B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3F99EF-9B30-4AAD-95D6-3C007AEEB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B17F9D-2929-4C01-86A5-34D63DDA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98E3C6-F04C-4B43-BFBA-A1933E79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797C6F-EADE-41F5-ACE2-CFD4FA3D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46D37D-A310-4F5A-A1D8-7F3CFCC7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68E809-7316-4AAC-9835-97FAA20D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719263-4133-42EF-8ADE-01726CE4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7C84-6DB1-43A5-808B-23F64FB3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E1C73A-C665-4BFF-A039-3DF0453A3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DAC813-ADC9-4A14-8F6E-7DC1F7A68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CE5C48-BC10-4F47-AC26-B8FEB02EC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5E24A7-09FC-40CB-819B-4D5B5586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6C76C4-A32D-4360-9A55-817F43DA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1F10B76-846A-4985-B3B3-74AFEF886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08A5ED9-D224-4969-B47C-C8152EB7E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85E6C9-622E-48E3-A632-C11F7FBB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B9E428-50F5-4D6B-8EF1-4B8A9C69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386CA9-2D9D-4486-A032-69093839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7241-D20B-4A6A-8CEA-D4F705D9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844BD0-7E45-466E-A698-3611D1BB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04A51F-8449-4F81-AFC2-41820993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AC7CEE-EF22-4B6E-878A-787B081D6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A9DD23-220B-4084-A665-E8AE61851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549054-BEBA-4B49-8482-7AC00F87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CBAA93-B72A-4CBF-8479-CA830597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BA7497-0B22-4EC6-80AF-6D9F6C62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EF3FC7-2F9C-46B2-9852-559FB2822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6BE55F-C158-400F-AB24-5BC1E76F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984C2C-31FC-4343-ACD2-B779F7255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F1F8-D640-4303-8FA3-17A67D63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B73CE-F1BC-4DE5-B3B0-EF71516F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D2C86A-EA44-429C-B528-A3A4BCBD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3D18C0-12EE-47AC-B03E-DB73A7571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ADE5096-0A51-4215-9949-224EB74BC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975250-1050-486D-8AD0-8D2F07D17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694173-F729-4BF2-8E03-8518701BF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632F5A-D594-4C0E-9D46-24F8307A3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27E572-3AF4-410F-B053-AA25EE2B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905E77-4603-4ACB-AD49-9941309E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4642CD-5EE7-4989-AEF6-E1B302CA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26D0D8-8731-4665-A7BF-A3BA1CE8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69E3C-2D5E-43A1-B6F3-74932C433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D5FEC4-F9C0-44F9-9AF3-6963A8230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BB4B90-11AB-452B-9FEE-70301501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E01251-B19D-46A9-885D-2B8ABA72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AF09D0-C11F-4311-9AF0-4C48CDC47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1A20BE-175D-4AA4-8093-44F9D7A0A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2C6C58-305B-436F-A644-A020676A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3765F0-FC7B-4AB2-AD8A-D31462AE5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C824B3-0213-47D0-A41E-4B3EEE20D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2C91E2-B952-49DE-B525-25EB3BAB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63BB6B-8A5A-448F-BD4E-DE1B31F1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2B2B-719E-4135-89A7-1A576061C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37FDE2-DAF8-4001-AD80-975D3BA6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252BDF-F77F-4A15-9817-C004A4376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685CE0-4A8C-43AD-9BC1-C92AD63C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F46045-7530-44C4-A50B-25A728059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54D4A0-FFA8-44B7-B5C4-CCDFDE4F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44C9AA-E1ED-41C3-AFC3-9B33DFBA4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31F73D-EEF6-49E3-B182-7B099C2FA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E651FF-16EC-4CD6-A126-8E32217BD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B328C7-5D3D-4D1F-87D6-C2573288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F6C806-7FC5-48CF-96F9-DCE358C6E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2E9F-545A-4F08-8424-9AAAFFDA4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141315-8B1D-4D3F-80CB-BFD98E60E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D1D41F-1B74-4EEC-A025-219E705D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F32A29-1E02-4082-BCF8-2B92E440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A3B4E8-D147-4CCB-914E-FB3BE5A5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F6A212-ABE7-4414-B1B5-C76F2AD7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238BC7-A758-4AFA-9D6D-B29C31F2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F8765C-C7E6-4EAF-9EB7-5BEA6193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382240-5DBE-432C-8E93-56165826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026DDB-3F5E-4056-8EAF-481730DF4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871A04-4B4B-4315-A71E-CFBD6B4FC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80E5-027E-43AF-84F8-05567805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409787-5B45-411C-8D97-ABEB96C8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30A6D4-6CEC-4371-892C-FDA737FB6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A55245-09B6-4D21-8A77-487E6259D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A175437-139E-458B-ABF3-DA025A0A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D94560-4E78-40DC-935B-B78FD180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C9146F1-C4DD-47AB-86B2-3578E33F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00E6C79-CEA7-4675-9DAF-9792AD94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5F1C7E-B0C8-4980-A4E9-AE571703B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70032C-7E78-4A73-923F-CE39AE8F1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3F0458-4C77-4220-B2C7-5AA2909F8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86226-FF52-4879-B7E0-CE52A51B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6D45FB-4201-41B4-82FB-C2D6D29A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B848A0-A06E-4113-BA0F-201C297F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37135C-9946-4C87-B707-A53C69DAC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C20862-E113-44D4-A56B-73855F6A3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330A21-8D72-46F2-8DC3-72C4CF98C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78C69F-956E-49DF-AF02-3B51DEEB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153FFE-2306-4867-ACE5-5908026F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0CC61C-F4EC-47ED-BDD1-499E7177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76FB6D-9445-4E2D-9EDC-A412905C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05353C-99B9-4137-9151-A1CEFEE0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2B2AE-6E96-488A-A8FF-3C547348D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F3A8CD-17CE-4224-AF73-B679C78F3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2DECA32-46F6-4A09-BBB5-EC438FA2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806C4B8-85D5-4AEC-94F5-A9186FA2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6954119-FF06-440C-8DD0-21277D9B5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EE7E42-5AA3-4BF1-B801-0AC520AD3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C3F168-2F10-404B-A8D7-D55FB5B1E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96A1CB-D2AC-484E-AF0D-B4B933875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4143A4-2338-4371-9C29-AABE1D0FC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19B141-DC26-47E3-BB6A-AEA8EAA7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0506EF-13D6-452B-9418-16D886E5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99351-D9A4-47BC-B04F-16D9C96F3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2DBA34-95B4-4F3D-B63D-674414133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8644F2-261E-4AE5-B27A-B259FC32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6ECA458-5ACA-4FB3-8CFB-E392780D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46E59A-19DF-4D77-ADC7-AB4A2874D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110F1B-7184-4699-812F-73898792F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4181DD-D379-4427-8EEB-F72CC6516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9A53E6-E156-4765-93CC-880683365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1F3FD8-D73D-42AD-BDB5-F3F971A54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3481CC-0C74-47A4-AB9E-B1EAF5C4B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7364CB-7079-4203-A4C8-7A9EFFC4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20987-75FC-4CA9-81E5-0E7313DB9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F96EE7-C42C-4B02-9AE5-8657A9C16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3CFAF0-C7D4-4972-B8FD-EDCFA348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B75A82D-3340-472A-97B2-AF5E49BCD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223D5F-B254-442E-A990-4F8F8E84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AE0897-E3B5-467C-A659-FE9E1513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851B2E-38D7-4F39-88E8-88DAC045A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9A6ED1-FBFD-4167-BD36-165B4A7EA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1A2072C-6640-48BB-A1AA-4E8423FA2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FFE5F5-EC57-41A1-B921-52BFC152C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235E6B-05BA-405F-BE82-E45A4BD7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A3B4F-978B-48FE-A174-3E33DB59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0EE320-1D36-49FF-9CCC-2BC2095F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2F1D4B4-6592-49F4-84E8-C6E7E85AC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9015F6-DC48-45F3-B820-C286BE34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D627827-0CB4-4BDA-A395-0948A678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8D8E0F-C451-40D8-BCD7-8B89CBEC2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563ED80-22FA-4020-975E-1A2FB153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9989F2-C853-4282-8BA8-59738604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859C5E-FD7C-4082-8DCF-9E3A3011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610F73-120F-4F51-9EBE-F3181751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1DA7A38-DF6A-4B8C-B56C-405920032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734C-6070-477A-B68F-62302404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A76FA-6860-49B8-9BED-1618CC57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E4B75F7-CE80-4A98-9F04-6AFB5181D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05934E-2E71-45ED-B451-C113CC0CA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AF6C5E8-F542-4945-A383-5C45990EE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0CE813-D2ED-418D-A3DA-5FFE0B56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5EA1F35-CB9E-4231-B46E-2D311FA6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C1DC27-515E-4393-9B79-E186FEC7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9C75722-5406-4E65-B6AA-D6E88450F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262E986-BBD2-4F71-BD0F-3A614639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1D5E46-8A16-4D09-9DED-B3F1C448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F23F6B4-184B-4941-AE82-9FE576CF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5BEBC-3A66-4EF9-AFE0-E1D363A2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DE4AF0-49D9-49F4-BD03-C4DAF7D7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F768A8F-CE3D-4F31-933E-655378918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0C8FAD-9BE3-4A4B-A52E-9D673D53F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D82DA06-86A7-4DE4-8B14-D39C1F92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120901-9D9C-487C-A2CF-BE50CFD7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C93C3C-3E23-40FB-A588-93D01BDD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1D940BE-97E5-45A9-9D9F-696995FF9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3ABF89-C59D-4927-93A4-6A8C2142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E0F8011-8FBD-46A5-BE37-FEABF0A0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406494E-AEBC-410E-93FB-A5913234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6070E-13E0-4D62-A366-D82282A5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7AE669-1ACD-4B6A-9B35-1E392BA1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592E265-4AE1-4959-B36F-F4F73352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0CD348-2582-4CA4-8696-9F897E10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2C2F34-93A2-4B60-AACA-5DE365709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43C4980-DEE9-4FB0-A82D-245B8946A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EDF1A3F-B077-408C-B679-F7A8D420A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87D96F5-29D7-4400-83B7-65751243C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3412F9-9897-4206-8F5B-7A3E6CA1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673E763-0431-4D63-B8BF-C14D256F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774AC8-190B-4905-84D0-B4AC876F6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D4B32-0C4A-42B8-9C07-1C6166B1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ED82D3-CD15-4E54-B4CD-CDE65341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07EB814-36E1-43DE-9803-B73D9C52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785C2A-28E8-4A83-AC19-8CC83242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49C9A00-1727-4B68-ADEE-678AA563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8BDD93-9560-4214-92FA-9C5CC053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09D3108-D96D-41F7-AF08-845CCAE7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68AB2B-750B-478B-A245-0C2D7A45E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333A03B-913E-4CA2-800F-1EF06D326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6B49BC5-2D9F-40A7-963D-E5E8D64B7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E549F7C-C0C6-4B31-8F2F-E66AEB8C7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B2CE7-5393-4B5C-AA07-44A1F4AC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FBC7EC-4AFA-44EA-AB9E-29EF2422D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8AC12F1-4B87-47F2-BFED-0F96740A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B1E8CF1-DC03-4EBB-8520-F80CA0639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4B335E8-A01D-4301-87BA-EE868D34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A4CB6C5-4450-47B0-B7FD-6BBDAFF4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59F138E-DDFC-4F6F-B507-A4B15A32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67F724B-9526-4EE7-A0E9-FBBC4CCD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E90796E-2C81-4C95-9C7D-EE57077C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7ACEDD5-6CF1-48AC-8F18-DA8BD23D4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AE8705C-33B9-4858-B398-FD2A13B24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9126B1-1170-48CB-854D-464D379F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950EBA2-140C-4049-9252-B4C72B2FE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B8AA38-03DE-4AF5-B7C9-E81AB3C9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D8CF54C-6677-4FE3-ACB6-9FD04507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8922769-F09C-41C3-9E4F-116828F2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6129B9B-7A8F-41D1-9C03-F5C977EB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5E9C193-793E-4A3C-A6A3-50AB318C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A3C8580-7B6F-4CAE-8218-63BE505A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C230DA6-3FE8-453C-8FFC-7A4812B7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712F0EC-77AB-4E90-A259-B20DB4D8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17F1F26-76EF-4CC6-8DB2-0F9D4565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B94212-8308-4F84-A0A5-88389CA7B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06F26A4-5470-41AC-B3C7-D25008B72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40691DE-5D00-4951-BB6A-76F1D1981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6177427-B5E7-479F-8DB6-257F22C7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7540C8B-7162-429B-B5AA-890F12BD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B8EBB74-0293-4D37-8A74-7C4CD624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C08BE8E-6BA9-4B3D-86C0-BD5C8013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47AAED-7D83-4F0E-A28C-70199F741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D41127D-8D1F-4B93-8A7B-6AB6FFC2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2E82581-3D19-4D21-816D-BF47C613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AA186E5-D76E-452E-A830-D03EDD48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88EDD-F2A5-49D6-9E87-A1B092F66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10FAED6-6775-4EE7-BD62-C6BAA263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89A2D16-32FC-40EF-A6E6-315C3658D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FFF8D05-F187-409C-8F1F-1C762BBD4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D26D2-23A3-4781-9980-B7B986E80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4F203-FEA8-4616-8788-F540D79E2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A69B-4BEF-4860-BF68-A2FAC119D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3B269-5EA1-4D4E-943E-EF976BC46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3C222-C84E-4DC0-9D30-63E46543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474ACE-0DD3-4E87-80FC-55B51A39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F7304-6E3A-4533-B6F8-163E2DC4E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66DC2-8F06-4281-9D76-EA9562CD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E4C9C-D1E3-4C73-BEFF-20E37282B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E1B6A-1FE1-495F-AFFE-450D4B676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5853F-387D-40C5-9CDE-CEC11DDD3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10704-B440-44FA-A22B-D7BB11DB3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84493B-3F64-4738-9AD2-EE333DD83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6B6C-7CBF-4138-BB74-E97B5550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9AE76-F7EE-40BC-8A81-251807B9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AB5E3-84F5-4DE1-80C2-DFA23FA4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9B5B06-5B93-41E8-B74B-7B495DE1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81B182-9307-4244-B8C8-C59A29CC5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F657A-446E-4DF4-945D-1CF32AE07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D476D-B2EB-4ACD-91EA-72A5ECA7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E97CC5-D551-46AD-946C-49B8F137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5B5A50-4C5A-446B-861D-F51B8381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B5FF9-5B3A-4237-B487-8175C136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8CFA24-CBF2-477A-B451-5418FB8A8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A7EC-ECCF-45C2-B978-80C73620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8AD0E4-F8CD-4317-8963-CCF999103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C70C5-CBBE-4168-A10F-9AED2E2B8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1BCA05-8A6B-4544-91A2-5821D976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BDA4F6-3408-450D-962E-4EDCFF9C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94F21-D292-4372-A9D1-95A82E85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F2B9B-0D16-486B-A612-61FC7BA7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239DB-29AB-4071-BC5D-43AA6740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A188B-7319-4EAE-91BA-4C02C1CA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6A413-6884-4FA0-85B8-E3687A70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9C93E-ABBD-4ED4-A78D-0D21F231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9D30-5B4A-4CED-8342-721E8441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84653-A68E-4329-82D4-9FCA79C6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4AE888-AA52-48B7-A14B-D17688BA1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434E06-9C78-4427-B0B7-2F44635CB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32424-7D80-4A36-8EF1-9C0FF7EFC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48702-2574-47F3-A082-9554AFC5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8DE6B-48B4-48DD-A3A1-4416FD8E4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84B2F-3F69-424D-B730-71F23916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F41E1-BF19-4AAF-A23B-0E6CF53E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71E1D-BEA5-45EC-8B31-37232FA5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F549E-CFAE-47BD-90C1-851928AC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2463-8843-4284-B188-E6A3DC23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40C7C-7988-4B8A-9734-CBF85D771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991B3-947F-4FEB-9691-F7F6AC97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064F2-648B-4F1B-8EC8-C12484FA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D5991-E5F7-4B7D-B61A-D1A8D4AB6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A69D6-3ACC-43B8-A245-02AAC8003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30384-901E-4D73-B80E-B0564E12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B0BB8D-1F73-4FC6-9634-BD079EDE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F3238-9D98-4F59-B8C5-69972D2C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E4E027-2B86-436B-8E30-B8BD6D6E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1280F-C212-4B32-B89F-366483A41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BF6F-0026-4C7B-92FF-E14C65D9C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3E392C-631D-4E9B-B839-E1D09345D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A5F7A-AE18-442E-99A3-162D4870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B185FD-CD2E-4957-ADC6-A9E49026F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94C5B9-5099-473E-99C4-0D67BFE4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E1928-2A0F-4DCC-8023-28E12682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E4470-93D8-43A8-81CF-72D2D3158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6D1DBA-11C1-442F-B50F-AE16B4523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C7196F-CB1A-47B5-B7C6-12CDFAE1E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D6EDF-D055-4184-9B4A-4264614C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B9792-B30C-480D-81C5-C3AE9FF1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60B0-4CDD-4F57-9B87-F2868570664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8BAE-0A77-49A8-9C35-1119695F79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04AA4-CCF1-42CD-8E20-DF4319BBBA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26D4-4CBD-407D-9DDE-870ED85E02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CEC4-774D-4A1D-B591-4C87C37F73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AC662-E396-4301-808B-151C30E2C6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BC75-9037-42C1-9438-2BB63FA3AE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18B7-71E2-45E9-BC20-D12E18F0EF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3301-B315-41D2-9338-DF34CEC3F1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87F7-C147-461A-BC66-0485E1DC78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29D9-15D3-4F4F-B20E-0844A7C1BA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E71D-7E57-41B2-A481-4A9A612EA8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2D8F-28AF-4391-9324-A13DC39400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A108-E2E0-409D-998F-682612D786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0956-6AEC-4595-ADAC-B379268B00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D7DC-74F4-43A2-B1DA-D3E1D103D3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22C6-0FE1-4C70-9679-D9DF3413DB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19E5-ADE7-4A65-9ED4-CFBF24B54C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885A-396B-429E-8361-1CD2B64798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C910-8D59-4001-BD49-1A1BBD5EB4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391B-D353-44C9-B97D-A8A104724D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775E-8B95-4E35-A218-B701D6630A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2032-BE63-46F7-973C-8D4DB261BC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30C5E-FDE5-4C8F-A4E8-CF161C46C4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79078-8F1A-4B59-9B8C-FF53028C51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EC58-ECEF-4D12-8B8C-655103424F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7BFE1-EE40-4D9B-B63F-A021185F68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B960-E60D-46EE-A5E2-101DA186D8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4C01-C9B9-4CC8-AEC2-41E2672529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CC64-12F5-49E8-B576-568CFC10C0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F0BE-97FA-4D79-9E7B-256FF43869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16EC-3A2F-4990-93C0-30E6D3D430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08D3-CA70-4E5E-BC90-049DC59CF5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3658-3ED6-4DCA-9FEA-FCE3FE0D7B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C6CF5-092A-493A-BCD4-F6E62A60386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6ED1-799D-4C93-8787-88A41B34A2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F08D-B809-465F-96DF-1C5DD5ADC1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42384-5806-4939-BCF2-D00CDB8AC1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6C85-5DC7-4E81-8286-98CA979F38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F5DC-ADC6-4894-A4BB-9DFE4E2472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2972-9153-4B49-88D3-5B2FA6A342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7950-7828-4743-9779-8D9996DD273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88CCD-5682-43BF-A29B-73C4F6E4D2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B42B-6A56-4ADE-BB39-D1C9F4E721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F976-0289-425E-9A6C-22D75E6C1A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18AE9-F3F7-4531-A5D0-3F01C56754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765D-9E3C-4092-A239-445912A5FA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3686-23F3-4591-90B2-476AD0873B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FD414-3140-4EE0-9B87-371262560D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2148-D100-4999-B77B-C2E932B18F3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2157480" y="2614680"/>
            <a:ext cx="48290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图片 116738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3896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115713" descr=""/>
          <p:cNvPicPr/>
          <p:nvPr/>
        </p:nvPicPr>
        <p:blipFill>
          <a:blip r:embed="rId1"/>
          <a:stretch/>
        </p:blipFill>
        <p:spPr>
          <a:xfrm>
            <a:off x="638280" y="1424160"/>
            <a:ext cx="7867440" cy="40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4" name="图片 114689" descr=""/>
          <p:cNvPicPr/>
          <p:nvPr/>
        </p:nvPicPr>
        <p:blipFill>
          <a:blip r:embed="rId1"/>
          <a:stretch/>
        </p:blipFill>
        <p:spPr>
          <a:xfrm>
            <a:off x="676440" y="880920"/>
            <a:ext cx="7791120" cy="5096160"/>
          </a:xfrm>
          <a:prstGeom prst="rect">
            <a:avLst/>
          </a:prstGeom>
          <a:ln w="0">
            <a:noFill/>
          </a:ln>
        </p:spPr>
      </p:pic>
      <p:sp>
        <p:nvSpPr>
          <p:cNvPr id="1465" name="矩形 114690"/>
          <p:cNvSpPr/>
          <p:nvPr/>
        </p:nvSpPr>
        <p:spPr>
          <a:xfrm>
            <a:off x="1344600" y="2095560"/>
            <a:ext cx="717228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114691"/>
          <p:cNvSpPr/>
          <p:nvPr/>
        </p:nvSpPr>
        <p:spPr>
          <a:xfrm>
            <a:off x="1297080" y="2666880"/>
            <a:ext cx="717228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114692"/>
          <p:cNvSpPr/>
          <p:nvPr/>
        </p:nvSpPr>
        <p:spPr>
          <a:xfrm>
            <a:off x="1163520" y="3247920"/>
            <a:ext cx="717228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114693"/>
          <p:cNvSpPr/>
          <p:nvPr/>
        </p:nvSpPr>
        <p:spPr>
          <a:xfrm>
            <a:off x="1268280" y="3828960"/>
            <a:ext cx="7172280" cy="3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矩形 114694"/>
          <p:cNvSpPr/>
          <p:nvPr/>
        </p:nvSpPr>
        <p:spPr>
          <a:xfrm>
            <a:off x="1287360" y="4373640"/>
            <a:ext cx="71722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114695"/>
          <p:cNvSpPr/>
          <p:nvPr/>
        </p:nvSpPr>
        <p:spPr>
          <a:xfrm>
            <a:off x="1335240" y="4925880"/>
            <a:ext cx="71722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14696"/>
          <p:cNvSpPr/>
          <p:nvPr/>
        </p:nvSpPr>
        <p:spPr>
          <a:xfrm>
            <a:off x="1268280" y="5516640"/>
            <a:ext cx="717228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2" name="图片 113665" descr=""/>
          <p:cNvPicPr/>
          <p:nvPr/>
        </p:nvPicPr>
        <p:blipFill>
          <a:blip r:embed="rId1"/>
          <a:stretch/>
        </p:blipFill>
        <p:spPr>
          <a:xfrm>
            <a:off x="666720" y="1157400"/>
            <a:ext cx="7810560" cy="4543200"/>
          </a:xfrm>
          <a:prstGeom prst="rect">
            <a:avLst/>
          </a:prstGeom>
          <a:ln w="0">
            <a:noFill/>
          </a:ln>
        </p:spPr>
      </p:pic>
      <p:sp>
        <p:nvSpPr>
          <p:cNvPr id="1473" name="矩形 113666"/>
          <p:cNvSpPr/>
          <p:nvPr/>
        </p:nvSpPr>
        <p:spPr>
          <a:xfrm>
            <a:off x="1297080" y="2394000"/>
            <a:ext cx="720720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矩形 113667"/>
          <p:cNvSpPr/>
          <p:nvPr/>
        </p:nvSpPr>
        <p:spPr>
          <a:xfrm>
            <a:off x="1116000" y="2965320"/>
            <a:ext cx="7207200" cy="389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113668"/>
          <p:cNvSpPr/>
          <p:nvPr/>
        </p:nvSpPr>
        <p:spPr>
          <a:xfrm>
            <a:off x="1163520" y="3508200"/>
            <a:ext cx="7207200" cy="389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113669"/>
          <p:cNvSpPr/>
          <p:nvPr/>
        </p:nvSpPr>
        <p:spPr>
          <a:xfrm>
            <a:off x="1230480" y="4098960"/>
            <a:ext cx="720720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13670"/>
          <p:cNvSpPr/>
          <p:nvPr/>
        </p:nvSpPr>
        <p:spPr>
          <a:xfrm>
            <a:off x="1239840" y="4660920"/>
            <a:ext cx="720720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113671"/>
          <p:cNvSpPr/>
          <p:nvPr/>
        </p:nvSpPr>
        <p:spPr>
          <a:xfrm>
            <a:off x="1187280" y="5229360"/>
            <a:ext cx="720756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9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图片 112641" descr=""/>
          <p:cNvPicPr/>
          <p:nvPr/>
        </p:nvPicPr>
        <p:blipFill>
          <a:blip r:embed="rId1"/>
          <a:stretch/>
        </p:blipFill>
        <p:spPr>
          <a:xfrm>
            <a:off x="890640" y="2543040"/>
            <a:ext cx="7362720" cy="1771920"/>
          </a:xfrm>
          <a:prstGeom prst="rect">
            <a:avLst/>
          </a:prstGeom>
          <a:ln w="0">
            <a:noFill/>
          </a:ln>
        </p:spPr>
      </p:pic>
      <p:sp>
        <p:nvSpPr>
          <p:cNvPr id="1480" name="矩形 112643"/>
          <p:cNvSpPr/>
          <p:nvPr/>
        </p:nvSpPr>
        <p:spPr>
          <a:xfrm>
            <a:off x="1187280" y="2647800"/>
            <a:ext cx="7207560" cy="389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112644"/>
          <p:cNvSpPr/>
          <p:nvPr/>
        </p:nvSpPr>
        <p:spPr>
          <a:xfrm>
            <a:off x="1225440" y="3181320"/>
            <a:ext cx="720720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112645"/>
          <p:cNvSpPr/>
          <p:nvPr/>
        </p:nvSpPr>
        <p:spPr>
          <a:xfrm>
            <a:off x="1139760" y="3772080"/>
            <a:ext cx="720720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图片 111617" descr=""/>
          <p:cNvPicPr/>
          <p:nvPr/>
        </p:nvPicPr>
        <p:blipFill>
          <a:blip r:embed="rId1"/>
          <a:stretch/>
        </p:blipFill>
        <p:spPr>
          <a:xfrm>
            <a:off x="442800" y="824040"/>
            <a:ext cx="8258400" cy="52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4" name="图片 110593" descr=""/>
          <p:cNvPicPr/>
          <p:nvPr/>
        </p:nvPicPr>
        <p:blipFill>
          <a:blip r:embed="rId1"/>
          <a:stretch/>
        </p:blipFill>
        <p:spPr>
          <a:xfrm>
            <a:off x="452520" y="2028960"/>
            <a:ext cx="8238960" cy="2800080"/>
          </a:xfrm>
          <a:prstGeom prst="rect">
            <a:avLst/>
          </a:prstGeom>
          <a:ln w="0">
            <a:noFill/>
          </a:ln>
        </p:spPr>
      </p:pic>
      <p:sp>
        <p:nvSpPr>
          <p:cNvPr id="1485" name="矩形 110594"/>
          <p:cNvSpPr/>
          <p:nvPr/>
        </p:nvSpPr>
        <p:spPr>
          <a:xfrm>
            <a:off x="996840" y="3209760"/>
            <a:ext cx="7678800" cy="389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110595"/>
          <p:cNvSpPr/>
          <p:nvPr/>
        </p:nvSpPr>
        <p:spPr>
          <a:xfrm>
            <a:off x="958680" y="3819600"/>
            <a:ext cx="767880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110596"/>
          <p:cNvSpPr/>
          <p:nvPr/>
        </p:nvSpPr>
        <p:spPr>
          <a:xfrm>
            <a:off x="806400" y="4352760"/>
            <a:ext cx="7678800" cy="389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8" name="图片 109569" descr=""/>
          <p:cNvPicPr/>
          <p:nvPr/>
        </p:nvPicPr>
        <p:blipFill>
          <a:blip r:embed="rId1"/>
          <a:stretch/>
        </p:blipFill>
        <p:spPr>
          <a:xfrm>
            <a:off x="419040" y="1581120"/>
            <a:ext cx="8305920" cy="3695760"/>
          </a:xfrm>
          <a:prstGeom prst="rect">
            <a:avLst/>
          </a:prstGeom>
          <a:ln w="0">
            <a:noFill/>
          </a:ln>
        </p:spPr>
      </p:pic>
      <p:sp>
        <p:nvSpPr>
          <p:cNvPr id="1489" name="矩形 109570"/>
          <p:cNvSpPr/>
          <p:nvPr/>
        </p:nvSpPr>
        <p:spPr>
          <a:xfrm>
            <a:off x="1073160" y="2371680"/>
            <a:ext cx="7602480" cy="389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109571"/>
          <p:cNvSpPr/>
          <p:nvPr/>
        </p:nvSpPr>
        <p:spPr>
          <a:xfrm>
            <a:off x="1054080" y="2962440"/>
            <a:ext cx="760248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109572"/>
          <p:cNvSpPr/>
          <p:nvPr/>
        </p:nvSpPr>
        <p:spPr>
          <a:xfrm>
            <a:off x="1015920" y="3524400"/>
            <a:ext cx="760248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109573"/>
          <p:cNvSpPr/>
          <p:nvPr/>
        </p:nvSpPr>
        <p:spPr>
          <a:xfrm>
            <a:off x="996840" y="4124160"/>
            <a:ext cx="7602480" cy="389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109574"/>
          <p:cNvSpPr/>
          <p:nvPr/>
        </p:nvSpPr>
        <p:spPr>
          <a:xfrm>
            <a:off x="977760" y="4695840"/>
            <a:ext cx="760284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5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4" name="图片 108545" descr=""/>
          <p:cNvPicPr/>
          <p:nvPr/>
        </p:nvPicPr>
        <p:blipFill>
          <a:blip r:embed="rId1"/>
          <a:stretch/>
        </p:blipFill>
        <p:spPr>
          <a:xfrm>
            <a:off x="500040" y="2414520"/>
            <a:ext cx="8143920" cy="2028960"/>
          </a:xfrm>
          <a:prstGeom prst="rect">
            <a:avLst/>
          </a:prstGeom>
          <a:ln w="0">
            <a:noFill/>
          </a:ln>
        </p:spPr>
      </p:pic>
      <p:sp>
        <p:nvSpPr>
          <p:cNvPr id="1495" name="矩形 108546"/>
          <p:cNvSpPr/>
          <p:nvPr/>
        </p:nvSpPr>
        <p:spPr>
          <a:xfrm>
            <a:off x="949320" y="3695760"/>
            <a:ext cx="720720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124929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515080" cy="3409920"/>
          </a:xfrm>
          <a:prstGeom prst="rect">
            <a:avLst/>
          </a:prstGeom>
          <a:ln w="0">
            <a:noFill/>
          </a:ln>
        </p:spPr>
      </p:pic>
      <p:sp>
        <p:nvSpPr>
          <p:cNvPr id="1434" name="矩形 124930"/>
          <p:cNvSpPr/>
          <p:nvPr/>
        </p:nvSpPr>
        <p:spPr>
          <a:xfrm>
            <a:off x="2050920" y="3265560"/>
            <a:ext cx="559080" cy="27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矩形 124931"/>
          <p:cNvSpPr/>
          <p:nvPr/>
        </p:nvSpPr>
        <p:spPr>
          <a:xfrm>
            <a:off x="7508880" y="3274920"/>
            <a:ext cx="558720" cy="27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124932"/>
          <p:cNvSpPr/>
          <p:nvPr/>
        </p:nvSpPr>
        <p:spPr>
          <a:xfrm>
            <a:off x="1698480" y="4017960"/>
            <a:ext cx="559080" cy="27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3"/>
          <p:cNvSpPr/>
          <p:nvPr/>
        </p:nvSpPr>
        <p:spPr>
          <a:xfrm>
            <a:off x="4927680" y="4398840"/>
            <a:ext cx="558720" cy="27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4934"/>
          <p:cNvSpPr/>
          <p:nvPr/>
        </p:nvSpPr>
        <p:spPr>
          <a:xfrm>
            <a:off x="2679840" y="4780080"/>
            <a:ext cx="558720" cy="277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9" name="图片 123905" descr=""/>
          <p:cNvPicPr/>
          <p:nvPr/>
        </p:nvPicPr>
        <p:blipFill>
          <a:blip r:embed="rId1"/>
          <a:stretch/>
        </p:blipFill>
        <p:spPr>
          <a:xfrm>
            <a:off x="324000" y="1928880"/>
            <a:ext cx="8496000" cy="3000240"/>
          </a:xfrm>
          <a:prstGeom prst="rect">
            <a:avLst/>
          </a:prstGeom>
          <a:ln w="0">
            <a:noFill/>
          </a:ln>
        </p:spPr>
      </p:pic>
      <p:sp>
        <p:nvSpPr>
          <p:cNvPr id="1440" name="矩形 123906"/>
          <p:cNvSpPr/>
          <p:nvPr/>
        </p:nvSpPr>
        <p:spPr>
          <a:xfrm>
            <a:off x="2411280" y="2295360"/>
            <a:ext cx="55908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3907"/>
          <p:cNvSpPr/>
          <p:nvPr/>
        </p:nvSpPr>
        <p:spPr>
          <a:xfrm>
            <a:off x="4327560" y="3056040"/>
            <a:ext cx="116676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3908"/>
          <p:cNvSpPr/>
          <p:nvPr/>
        </p:nvSpPr>
        <p:spPr>
          <a:xfrm>
            <a:off x="6727680" y="3798720"/>
            <a:ext cx="7970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3909"/>
          <p:cNvSpPr/>
          <p:nvPr/>
        </p:nvSpPr>
        <p:spPr>
          <a:xfrm>
            <a:off x="4021200" y="4191120"/>
            <a:ext cx="55872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图片 122881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8477280" cy="3505320"/>
          </a:xfrm>
          <a:prstGeom prst="rect">
            <a:avLst/>
          </a:prstGeom>
          <a:ln w="0">
            <a:noFill/>
          </a:ln>
        </p:spPr>
      </p:pic>
      <p:sp>
        <p:nvSpPr>
          <p:cNvPr id="1445" name="矩形 122882"/>
          <p:cNvSpPr/>
          <p:nvPr/>
        </p:nvSpPr>
        <p:spPr>
          <a:xfrm>
            <a:off x="8012160" y="3571920"/>
            <a:ext cx="368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6" name="图片 121857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505720" cy="5209920"/>
          </a:xfrm>
          <a:prstGeom prst="rect">
            <a:avLst/>
          </a:prstGeom>
          <a:ln w="0">
            <a:noFill/>
          </a:ln>
        </p:spPr>
      </p:pic>
      <p:sp>
        <p:nvSpPr>
          <p:cNvPr id="1447" name="矩形 121858"/>
          <p:cNvSpPr/>
          <p:nvPr/>
        </p:nvSpPr>
        <p:spPr>
          <a:xfrm>
            <a:off x="8211960" y="2190600"/>
            <a:ext cx="368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矩形 121859"/>
          <p:cNvSpPr/>
          <p:nvPr/>
        </p:nvSpPr>
        <p:spPr>
          <a:xfrm>
            <a:off x="8155080" y="4467240"/>
            <a:ext cx="368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9" name="图片 120833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486640" cy="3886200"/>
          </a:xfrm>
          <a:prstGeom prst="rect">
            <a:avLst/>
          </a:prstGeom>
          <a:ln w="0">
            <a:noFill/>
          </a:ln>
        </p:spPr>
      </p:pic>
      <p:pic>
        <p:nvPicPr>
          <p:cNvPr id="1450" name="图片 120834" descr=""/>
          <p:cNvPicPr/>
          <p:nvPr/>
        </p:nvPicPr>
        <p:blipFill>
          <a:blip r:embed="rId2"/>
          <a:stretch/>
        </p:blipFill>
        <p:spPr>
          <a:xfrm>
            <a:off x="324000" y="4869000"/>
            <a:ext cx="8467560" cy="1742760"/>
          </a:xfrm>
          <a:prstGeom prst="rect">
            <a:avLst/>
          </a:prstGeom>
          <a:ln w="0">
            <a:noFill/>
          </a:ln>
        </p:spPr>
      </p:pic>
      <p:sp>
        <p:nvSpPr>
          <p:cNvPr id="1451" name="矩形 120835"/>
          <p:cNvSpPr/>
          <p:nvPr/>
        </p:nvSpPr>
        <p:spPr>
          <a:xfrm>
            <a:off x="8211960" y="1380960"/>
            <a:ext cx="36864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120836"/>
          <p:cNvSpPr/>
          <p:nvPr/>
        </p:nvSpPr>
        <p:spPr>
          <a:xfrm>
            <a:off x="8211960" y="3057480"/>
            <a:ext cx="36864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矩形 120837"/>
          <p:cNvSpPr/>
          <p:nvPr/>
        </p:nvSpPr>
        <p:spPr>
          <a:xfrm>
            <a:off x="8193240" y="5238720"/>
            <a:ext cx="368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图片 119809" descr=""/>
          <p:cNvPicPr/>
          <p:nvPr/>
        </p:nvPicPr>
        <p:blipFill>
          <a:blip r:embed="rId1"/>
          <a:stretch/>
        </p:blipFill>
        <p:spPr>
          <a:xfrm>
            <a:off x="314280" y="1119240"/>
            <a:ext cx="8515440" cy="4619520"/>
          </a:xfrm>
          <a:prstGeom prst="rect">
            <a:avLst/>
          </a:prstGeom>
          <a:ln w="0">
            <a:noFill/>
          </a:ln>
        </p:spPr>
      </p:pic>
      <p:sp>
        <p:nvSpPr>
          <p:cNvPr id="1455" name="矩形 119810"/>
          <p:cNvSpPr/>
          <p:nvPr/>
        </p:nvSpPr>
        <p:spPr>
          <a:xfrm>
            <a:off x="8298000" y="1943280"/>
            <a:ext cx="368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119811"/>
          <p:cNvSpPr/>
          <p:nvPr/>
        </p:nvSpPr>
        <p:spPr>
          <a:xfrm>
            <a:off x="8259840" y="4019400"/>
            <a:ext cx="36828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图片 118785" descr=""/>
          <p:cNvPicPr/>
          <p:nvPr/>
        </p:nvPicPr>
        <p:blipFill>
          <a:blip r:embed="rId1"/>
          <a:stretch/>
        </p:blipFill>
        <p:spPr>
          <a:xfrm>
            <a:off x="299880" y="1338120"/>
            <a:ext cx="8544240" cy="4181760"/>
          </a:xfrm>
          <a:prstGeom prst="rect">
            <a:avLst/>
          </a:prstGeom>
          <a:ln w="0">
            <a:noFill/>
          </a:ln>
        </p:spPr>
      </p:pic>
      <p:sp>
        <p:nvSpPr>
          <p:cNvPr id="1458" name="矩形 118786"/>
          <p:cNvSpPr/>
          <p:nvPr/>
        </p:nvSpPr>
        <p:spPr>
          <a:xfrm>
            <a:off x="8269200" y="2066760"/>
            <a:ext cx="36828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118787"/>
          <p:cNvSpPr/>
          <p:nvPr/>
        </p:nvSpPr>
        <p:spPr>
          <a:xfrm>
            <a:off x="4992840" y="3429000"/>
            <a:ext cx="368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图片 117761" descr=""/>
          <p:cNvPicPr/>
          <p:nvPr/>
        </p:nvPicPr>
        <p:blipFill>
          <a:blip r:embed="rId1"/>
          <a:stretch/>
        </p:blipFill>
        <p:spPr>
          <a:xfrm>
            <a:off x="343080" y="2038320"/>
            <a:ext cx="8458200" cy="2781360"/>
          </a:xfrm>
          <a:prstGeom prst="rect">
            <a:avLst/>
          </a:prstGeom>
          <a:ln w="0">
            <a:noFill/>
          </a:ln>
        </p:spPr>
      </p:pic>
      <p:sp>
        <p:nvSpPr>
          <p:cNvPr id="1461" name="矩形 117762"/>
          <p:cNvSpPr/>
          <p:nvPr/>
        </p:nvSpPr>
        <p:spPr>
          <a:xfrm>
            <a:off x="8250120" y="3114720"/>
            <a:ext cx="3682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14T01:22:22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